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.wmf" ContentType="image/x-wmf"/>
  <Override PartName="/ppt/media/image25.wmf" ContentType="image/x-wmf"/>
  <Override PartName="/ppt/media/image3.wmf" ContentType="image/x-wmf"/>
  <Override PartName="/ppt/media/image26.wmf" ContentType="image/x-wmf"/>
  <Override PartName="/ppt/media/image4.jpeg" ContentType="image/jpeg"/>
  <Override PartName="/ppt/media/image6.png" ContentType="image/png"/>
  <Override PartName="/ppt/media/image8.png" ContentType="image/png"/>
  <Override PartName="/ppt/media/APPLAUSE.WAV" ContentType="audio/x-wav"/>
  <Override PartName="/ppt/media/image14.png" ContentType="image/png"/>
  <Override PartName="/ppt/media/image9.wmf" ContentType="image/x-wmf"/>
  <Override PartName="/ppt/media/image17.wmf" ContentType="image/x-wmf"/>
  <Override PartName="/ppt/media/DRIVEBY.WAV" ContentType="audio/x-wav"/>
  <Override PartName="/ppt/media/image11.wmf" ContentType="image/x-wmf"/>
  <Override PartName="/ppt/media/image12.png" ContentType="image/png"/>
  <Override PartName="/ppt/media/image10.png" ContentType="image/png"/>
  <Override PartName="/ppt/media/image1.jpeg" ContentType="image/jpeg"/>
  <Override PartName="/ppt/media/image15.wmf" ContentType="image/x-wmf"/>
  <Override PartName="/ppt/media/image7.wmf" ContentType="image/x-wmf"/>
  <Override PartName="/ppt/media/DRUMROLL.WAV" ContentType="audio/x-wav"/>
  <Override PartName="/ppt/media/image5.wmf" ContentType="image/x-wmf"/>
  <Override PartName="/ppt/media/TYPE.WAV" ContentType="audio/x-wav"/>
  <Override PartName="/ppt/media/image13.wmf" ContentType="image/x-wmf"/>
  <Override PartName="/ppt/media/image16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media/image22.png" ContentType="image/png"/>
  <Override PartName="/ppt/media/image2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AAA-7BE9-445C-845F-1762A0CF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033-9036-4FBD-8866-EF5EBB85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B18-20CC-4DDB-ABA7-E1DAED75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904-42D0-48A0-83AB-848D892F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712-DA81-415E-8CF6-00463B22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B5C-F619-479D-A744-BA6A894F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200-1B93-4691-B84C-002F8AFE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F4A-BA4F-4E1C-A004-586193D8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D58-F6FE-4C29-80CF-FD1B180B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EAF-4B7F-4C2A-BCAE-6D284EA9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662-7B2F-4DE7-BD48-8C83061F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DA8-C71A-4B3F-9092-BFF61154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E4DB-6008-45D8-9EB6-648C7E89F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audio" Target="../media/DRUMROLL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Comic Sans MS"/>
              </a:rPr>
              <a:t>Strategies for Ques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AutoShape 4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AutoShape 5">
            <a:hlinkClick r:id="" action="ppaction://hlinkshowjump?jump=firstslide"/>
          </p:cNvPr>
          <p:cNvSpPr/>
          <p:nvPr/>
        </p:nvSpPr>
        <p:spPr>
          <a:xfrm>
            <a:off x="3352680" y="5815080"/>
            <a:ext cx="2971800" cy="104292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1535" h="21600">
                <a:moveTo>
                  <a:pt x="0" y="0"/>
                </a:moveTo>
                <a:lnTo>
                  <a:pt x="61535" y="0"/>
                </a:lnTo>
                <a:lnTo>
                  <a:pt x="61535" y="21600"/>
                </a:lnTo>
                <a:lnTo>
                  <a:pt x="0" y="21600"/>
                </a:lnTo>
                <a:close/>
              </a:path>
              <a:path fill="lightenLess" w="61535" h="21600">
                <a:moveTo>
                  <a:pt x="0" y="0"/>
                </a:moveTo>
                <a:lnTo>
                  <a:pt x="61535" y="0"/>
                </a:lnTo>
                <a:lnTo>
                  <a:pt x="60135" y="1400"/>
                </a:lnTo>
                <a:lnTo>
                  <a:pt x="1400" y="1400"/>
                </a:lnTo>
                <a:close/>
              </a:path>
              <a:path fill="darken" w="61535" h="21600">
                <a:moveTo>
                  <a:pt x="61535" y="0"/>
                </a:moveTo>
                <a:lnTo>
                  <a:pt x="61535" y="21600"/>
                </a:lnTo>
                <a:lnTo>
                  <a:pt x="60135" y="20200"/>
                </a:lnTo>
                <a:lnTo>
                  <a:pt x="60135" y="1400"/>
                </a:lnTo>
                <a:close/>
              </a:path>
              <a:path fill="darkenLess" w="61535" h="21600">
                <a:moveTo>
                  <a:pt x="6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5" y="20200"/>
                </a:lnTo>
                <a:close/>
              </a:path>
              <a:path fill="lighten" w="6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for Teac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237168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480" y="304920"/>
            <a:ext cx="864396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99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6600cc"/>
                </a:solidFill>
                <a:latin typeface="Comic Sans MS"/>
              </a:rPr>
              <a:t>Author and Me”</a:t>
            </a:r>
            <a:br>
              <a:rPr sz="4000"/>
            </a:br>
            <a:r>
              <a:rPr b="1" i="1" lang="en-US" sz="4000" spc="-1" strike="noStrike">
                <a:solidFill>
                  <a:srgbClr val="6600cc"/>
                </a:solidFill>
                <a:latin typeface="Comic Sans MS"/>
              </a:rPr>
              <a:t>Head &amp; Heart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Inferential/Respo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880" y="4143240"/>
            <a:ext cx="64008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answer these questions you combine what you know or have experienced with what is in the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>
            <a:hlinkClick r:id="" action="ppaction://hlinkshowjump?jump=previousslide"/>
          </p:cNvPr>
          <p:cNvSpPr/>
          <p:nvPr/>
        </p:nvSpPr>
        <p:spPr>
          <a:xfrm>
            <a:off x="0" y="5943600"/>
            <a:ext cx="1042920" cy="914400"/>
          </a:xfrm>
          <a:custGeom>
            <a:avLst/>
            <a:gdLst>
              <a:gd name="textAreaLeft" fmla="*/ 59040 w 1042920"/>
              <a:gd name="textAreaRight" fmla="*/ 983880 w 1042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4635" h="21600">
                <a:moveTo>
                  <a:pt x="0" y="0"/>
                </a:moveTo>
                <a:lnTo>
                  <a:pt x="24635" y="0"/>
                </a:lnTo>
                <a:lnTo>
                  <a:pt x="24635" y="21600"/>
                </a:lnTo>
                <a:lnTo>
                  <a:pt x="0" y="21600"/>
                </a:lnTo>
                <a:close/>
              </a:path>
              <a:path fill="lightenLess" w="24635" h="21600">
                <a:moveTo>
                  <a:pt x="0" y="0"/>
                </a:moveTo>
                <a:lnTo>
                  <a:pt x="24635" y="0"/>
                </a:lnTo>
                <a:lnTo>
                  <a:pt x="23235" y="1400"/>
                </a:lnTo>
                <a:lnTo>
                  <a:pt x="1400" y="1400"/>
                </a:lnTo>
                <a:close/>
              </a:path>
              <a:path fill="darken" w="24635" h="21600">
                <a:moveTo>
                  <a:pt x="24635" y="0"/>
                </a:moveTo>
                <a:lnTo>
                  <a:pt x="24635" y="21600"/>
                </a:lnTo>
                <a:lnTo>
                  <a:pt x="23235" y="20200"/>
                </a:lnTo>
                <a:lnTo>
                  <a:pt x="23235" y="1400"/>
                </a:lnTo>
                <a:close/>
              </a:path>
              <a:path fill="darkenLess" w="24635" h="21600">
                <a:moveTo>
                  <a:pt x="24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35" y="20200"/>
                </a:lnTo>
                <a:close/>
              </a:path>
              <a:path fill="lighten" w="24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35" h="21600">
                <a:moveTo>
                  <a:pt x="5311" y="10800"/>
                </a:moveTo>
                <a:lnTo>
                  <a:pt x="19324" y="3794"/>
                </a:lnTo>
                <a:lnTo>
                  <a:pt x="19324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8101080" y="5943600"/>
            <a:ext cx="1042920" cy="914400"/>
          </a:xfrm>
          <a:custGeom>
            <a:avLst/>
            <a:gdLst>
              <a:gd name="textAreaLeft" fmla="*/ 59040 w 1042920"/>
              <a:gd name="textAreaRight" fmla="*/ 983880 w 1042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4635" h="21600">
                <a:moveTo>
                  <a:pt x="0" y="0"/>
                </a:moveTo>
                <a:lnTo>
                  <a:pt x="24635" y="0"/>
                </a:lnTo>
                <a:lnTo>
                  <a:pt x="24635" y="21600"/>
                </a:lnTo>
                <a:lnTo>
                  <a:pt x="0" y="21600"/>
                </a:lnTo>
                <a:close/>
              </a:path>
              <a:path fill="lightenLess" w="24635" h="21600">
                <a:moveTo>
                  <a:pt x="0" y="0"/>
                </a:moveTo>
                <a:lnTo>
                  <a:pt x="24635" y="0"/>
                </a:lnTo>
                <a:lnTo>
                  <a:pt x="23235" y="1400"/>
                </a:lnTo>
                <a:lnTo>
                  <a:pt x="1400" y="1400"/>
                </a:lnTo>
                <a:close/>
              </a:path>
              <a:path fill="darken" w="24635" h="21600">
                <a:moveTo>
                  <a:pt x="24635" y="0"/>
                </a:moveTo>
                <a:lnTo>
                  <a:pt x="24635" y="21600"/>
                </a:lnTo>
                <a:lnTo>
                  <a:pt x="23235" y="20200"/>
                </a:lnTo>
                <a:lnTo>
                  <a:pt x="23235" y="1400"/>
                </a:lnTo>
                <a:close/>
              </a:path>
              <a:path fill="darkenLess" w="24635" h="21600">
                <a:moveTo>
                  <a:pt x="24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35" y="20200"/>
                </a:lnTo>
                <a:close/>
              </a:path>
              <a:path fill="lighten" w="24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35" h="21600">
                <a:moveTo>
                  <a:pt x="5311" y="3794"/>
                </a:moveTo>
                <a:lnTo>
                  <a:pt x="19324" y="10800"/>
                </a:lnTo>
                <a:lnTo>
                  <a:pt x="5311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2500200" y="2214720"/>
            <a:ext cx="3124440" cy="155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700"/>
                            </p:stCondLst>
                            <p:childTnLst>
                              <p:par>
                                <p:cTn id="1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200"/>
                            </p:stCondLst>
                            <p:childTnLst>
                              <p:par>
                                <p:cTn id="1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571680" y="3857760"/>
            <a:ext cx="8286480" cy="1214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480" y="5331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uthor and Me” 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Head &amp; Heart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Inferential/Respo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235728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Comic Sans MS"/>
              </a:rPr>
              <a:t>Baa, baa, black sheep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Comic Sans MS"/>
              </a:rPr>
              <a:t>Have you any woo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57160" y="3929040"/>
            <a:ext cx="80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could they want to do with the wool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3571920" y="5334120"/>
            <a:ext cx="2133720" cy="152388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3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1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3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60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33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339933"/>
                </a:solidFill>
                <a:latin typeface="Comic Sans MS"/>
              </a:rPr>
              <a:t>On My Own” </a:t>
            </a:r>
            <a:br>
              <a:rPr sz="4000"/>
            </a:br>
            <a:r>
              <a:rPr b="1" i="1" lang="en-US" sz="4000" spc="-1" strike="noStrike">
                <a:solidFill>
                  <a:srgbClr val="339933"/>
                </a:solidFill>
                <a:latin typeface="Comic Sans MS"/>
              </a:rPr>
              <a:t>Head &amp; Heart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Respo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answer </a:t>
            </a:r>
            <a:r>
              <a:rPr b="1" i="1" lang="en-US" sz="3600" spc="-1" strike="noStrike">
                <a:solidFill>
                  <a:srgbClr val="336600"/>
                </a:solidFill>
                <a:latin typeface="Comic Sans MS"/>
              </a:rPr>
              <a:t>On My Ow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questions you use your own experiences and opin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371600" y="44197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6629400" y="4419720"/>
            <a:ext cx="1681200" cy="1676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3962520" y="4572000"/>
            <a:ext cx="2057400" cy="190512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8">
            <a:hlinkClick r:id="" action="ppaction://hlinkshowjump?jump=previousslide"/>
          </p:cNvPr>
          <p:cNvSpPr/>
          <p:nvPr/>
        </p:nvSpPr>
        <p:spPr>
          <a:xfrm>
            <a:off x="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AutoShape 9">
            <a:hlinkClick r:id="" action="ppaction://hlinkshowjump?jump=nextslide"/>
          </p:cNvPr>
          <p:cNvSpPr/>
          <p:nvPr/>
        </p:nvSpPr>
        <p:spPr>
          <a:xfrm>
            <a:off x="810108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175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675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175"/>
                            </p:stCondLst>
                            <p:childTnLst>
                              <p:par>
                                <p:cTn id="1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675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1071720" y="4286160"/>
            <a:ext cx="7000560" cy="157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cc0099"/>
                </a:solidFill>
                <a:latin typeface="Comic Sans MS"/>
              </a:rPr>
              <a:t>On </a:t>
            </a:r>
            <a:r>
              <a:rPr b="1" lang="en-US" sz="4000" spc="-1" strike="noStrike">
                <a:solidFill>
                  <a:srgbClr val="cc0099"/>
                </a:solidFill>
                <a:latin typeface="Comic Sans MS"/>
              </a:rPr>
              <a:t>My Own”</a:t>
            </a:r>
            <a:br>
              <a:rPr sz="4000"/>
            </a:br>
            <a:r>
              <a:rPr b="1" lang="en-US" sz="4000" spc="-1" strike="noStrike">
                <a:solidFill>
                  <a:srgbClr val="cc0099"/>
                </a:solidFill>
                <a:latin typeface="Comic Sans MS"/>
              </a:rPr>
              <a:t>Head &amp; Heart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Respo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9036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Mary, Mary, quite contrary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How does your garden gr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447920" y="4500720"/>
            <a:ext cx="631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would you plant in you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arde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0" y="428760"/>
            <a:ext cx="205740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6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3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400"/>
                            </p:stCondLst>
                            <p:childTnLst>
                              <p:par>
                                <p:cTn id="2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8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4200" y="304560"/>
            <a:ext cx="81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When answering question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2142720"/>
            <a:ext cx="7467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sk yourself, what type of a question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omic Sans MS"/>
              </a:rPr>
              <a:t>Do I need to scan the text to locate the inform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omic Sans MS"/>
              </a:rPr>
              <a:t>Do I need to gather information from more than one place in the text and think about what I kn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omic Sans MS"/>
              </a:rPr>
              <a:t>Do I need to think about what the text says and apply what I kn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omic Sans MS"/>
              </a:rPr>
              <a:t>Do I need to connect to my own personal experiences and think about my opin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>
            <a:hlinkClick r:id="" action="ppaction://hlinkshowjump?jump=previousslide"/>
          </p:cNvPr>
          <p:cNvSpPr/>
          <p:nvPr/>
        </p:nvSpPr>
        <p:spPr>
          <a:xfrm>
            <a:off x="0" y="6119640"/>
            <a:ext cx="1042920" cy="738360"/>
          </a:xfrm>
          <a:custGeom>
            <a:avLst/>
            <a:gdLst>
              <a:gd name="textAreaLeft" fmla="*/ 47880 w 1042920"/>
              <a:gd name="textAreaRight" fmla="*/ 995400 w 10429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30505" h="21600">
                <a:moveTo>
                  <a:pt x="0" y="0"/>
                </a:moveTo>
                <a:lnTo>
                  <a:pt x="30505" y="0"/>
                </a:lnTo>
                <a:lnTo>
                  <a:pt x="30505" y="21600"/>
                </a:lnTo>
                <a:lnTo>
                  <a:pt x="0" y="21600"/>
                </a:lnTo>
                <a:close/>
              </a:path>
              <a:path fill="lightenLess" w="30505" h="21600">
                <a:moveTo>
                  <a:pt x="0" y="0"/>
                </a:moveTo>
                <a:lnTo>
                  <a:pt x="30505" y="0"/>
                </a:lnTo>
                <a:lnTo>
                  <a:pt x="29105" y="1400"/>
                </a:lnTo>
                <a:lnTo>
                  <a:pt x="1400" y="1400"/>
                </a:lnTo>
                <a:close/>
              </a:path>
              <a:path fill="darken" w="30505" h="21600">
                <a:moveTo>
                  <a:pt x="30505" y="0"/>
                </a:moveTo>
                <a:lnTo>
                  <a:pt x="30505" y="21600"/>
                </a:lnTo>
                <a:lnTo>
                  <a:pt x="29105" y="20200"/>
                </a:lnTo>
                <a:lnTo>
                  <a:pt x="29105" y="1400"/>
                </a:lnTo>
                <a:close/>
              </a:path>
              <a:path fill="darkenLess" w="30505" h="21600">
                <a:moveTo>
                  <a:pt x="30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5" y="20200"/>
                </a:lnTo>
                <a:close/>
              </a:path>
              <a:path fill="lighten" w="30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5" h="21600">
                <a:moveTo>
                  <a:pt x="8246" y="10800"/>
                </a:moveTo>
                <a:lnTo>
                  <a:pt x="22259" y="3794"/>
                </a:lnTo>
                <a:lnTo>
                  <a:pt x="22259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4008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7143840" y="642960"/>
            <a:ext cx="2365200" cy="29527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0">
            <a:hlinkClick r:id="" action="ppaction://hlinkshowjump?jump=nextslide"/>
          </p:cNvPr>
          <p:cNvSpPr/>
          <p:nvPr/>
        </p:nvSpPr>
        <p:spPr>
          <a:xfrm>
            <a:off x="8101080" y="6119640"/>
            <a:ext cx="1042920" cy="738360"/>
          </a:xfrm>
          <a:custGeom>
            <a:avLst/>
            <a:gdLst>
              <a:gd name="textAreaLeft" fmla="*/ 47880 w 1042920"/>
              <a:gd name="textAreaRight" fmla="*/ 995400 w 10429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30505" h="21600">
                <a:moveTo>
                  <a:pt x="0" y="0"/>
                </a:moveTo>
                <a:lnTo>
                  <a:pt x="30505" y="0"/>
                </a:lnTo>
                <a:lnTo>
                  <a:pt x="30505" y="21600"/>
                </a:lnTo>
                <a:lnTo>
                  <a:pt x="0" y="21600"/>
                </a:lnTo>
                <a:close/>
              </a:path>
              <a:path fill="lightenLess" w="30505" h="21600">
                <a:moveTo>
                  <a:pt x="0" y="0"/>
                </a:moveTo>
                <a:lnTo>
                  <a:pt x="30505" y="0"/>
                </a:lnTo>
                <a:lnTo>
                  <a:pt x="29105" y="1400"/>
                </a:lnTo>
                <a:lnTo>
                  <a:pt x="1400" y="1400"/>
                </a:lnTo>
                <a:close/>
              </a:path>
              <a:path fill="darken" w="30505" h="21600">
                <a:moveTo>
                  <a:pt x="30505" y="0"/>
                </a:moveTo>
                <a:lnTo>
                  <a:pt x="30505" y="21600"/>
                </a:lnTo>
                <a:lnTo>
                  <a:pt x="29105" y="20200"/>
                </a:lnTo>
                <a:lnTo>
                  <a:pt x="29105" y="1400"/>
                </a:lnTo>
                <a:close/>
              </a:path>
              <a:path fill="darkenLess" w="30505" h="21600">
                <a:moveTo>
                  <a:pt x="30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5" y="20200"/>
                </a:lnTo>
                <a:close/>
              </a:path>
              <a:path fill="lighten" w="30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5" h="21600">
                <a:moveTo>
                  <a:pt x="8246" y="3794"/>
                </a:moveTo>
                <a:lnTo>
                  <a:pt x="22259" y="10800"/>
                </a:lnTo>
                <a:lnTo>
                  <a:pt x="824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  <p:sndAc>
      <p:stSnd>
        <p:snd r:embed="rId3" name="APPLAUSE.WAV"/>
      </p:stSnd>
    </p:sndAc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7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725"/>
                            </p:stCondLst>
                            <p:childTnLst>
                              <p:par>
                                <p:cTn id="2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225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3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525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3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125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3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425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3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225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3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ccccff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4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actice writing questions for something you are r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50560" y="3100320"/>
            <a:ext cx="43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types ar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255680" y="38098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omic Sans MS"/>
              </a:rPr>
              <a:t>1. Right ther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841760" y="4495680"/>
            <a:ext cx="47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2. Think and search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330280" y="5257800"/>
            <a:ext cx="42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3. Author and m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224880" y="5867280"/>
            <a:ext cx="34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4. On my ow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8">
            <a:hlinkClick r:id="" action="ppaction://hlinkshowjump?jump=previousslide"/>
          </p:cNvPr>
          <p:cNvSpPr/>
          <p:nvPr/>
        </p:nvSpPr>
        <p:spPr>
          <a:xfrm>
            <a:off x="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7144920" y="596124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b9"/>
                </a:solidFill>
                <a:latin typeface="Times New Roman"/>
              </a:rPr>
              <a:t>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11920" y="52624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28760" y="2446200"/>
            <a:ext cx="886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tudents will identify different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ypes of questions and apply thes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rategies to reading comprehens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6" descr="C:\Users\olyons\AppData\Local\Microsoft\Windows\Temporary Internet Files\Content.IE5\RYO1PTPN\MC900071191[1].wmf"/>
          <p:cNvPicPr/>
          <p:nvPr/>
        </p:nvPicPr>
        <p:blipFill>
          <a:blip r:embed="rId1"/>
          <a:stretch/>
        </p:blipFill>
        <p:spPr>
          <a:xfrm>
            <a:off x="1214280" y="4357800"/>
            <a:ext cx="2173320" cy="2333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b9"/>
                </a:solidFill>
                <a:latin typeface="Comic Sans MS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3123720"/>
            <a:ext cx="855324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essentially 4 types of questions used to analyse texts.  They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Right there questions/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liter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Think and search questions/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re-organisation/inferent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Author and me questions/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inferential/respons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 On my own questions/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respons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7391520" y="52578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AutoShape 5">
            <a:hlinkClick r:id="" action="ppaction://hlinkshowjump?jump=previousslide"/>
          </p:cNvPr>
          <p:cNvSpPr/>
          <p:nvPr/>
        </p:nvSpPr>
        <p:spPr>
          <a:xfrm>
            <a:off x="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AutoShape 6">
            <a:hlinkClick r:id="" action="ppaction://hlinkshowjump?jump=nex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14880" y="1447920"/>
            <a:ext cx="850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udents will view a serie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slides and practice identifying, answering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writing question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b9"/>
                </a:solidFill>
                <a:latin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4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09480" y="1785960"/>
            <a:ext cx="844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The teacher will click through each o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lid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Discuss the different types of question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ed Activity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e a test that the students have take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question types used on the tes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omic Sans MS"/>
              </a:rPr>
              <a:t>There are many kinds of ques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268720" y="2209680"/>
            <a:ext cx="46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Comic Sans MS"/>
              </a:rPr>
              <a:t>What is your nam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73640" y="3124080"/>
            <a:ext cx="78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How many days until your birthda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839160" y="4038480"/>
            <a:ext cx="791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Which character was the friendli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401480" y="4876920"/>
            <a:ext cx="603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Comic Sans MS"/>
              </a:rPr>
              <a:t>What is your favorite color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AutoShape 7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2"/>
          <a:stretch/>
        </p:blipFill>
        <p:spPr>
          <a:xfrm>
            <a:off x="38160" y="1143000"/>
            <a:ext cx="1890720" cy="19810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6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400"/>
                            </p:stCondLst>
                            <p:childTnLst>
                              <p:par>
                                <p:cTn id="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78688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99"/>
                </a:solidFill>
                <a:latin typeface="Comic Sans MS"/>
              </a:rPr>
              <a:t>“</a:t>
            </a:r>
            <a:r>
              <a:rPr b="1" i="1" lang="en-US" sz="4400" spc="-1" strike="noStrike">
                <a:solidFill>
                  <a:srgbClr val="666699"/>
                </a:solidFill>
                <a:latin typeface="Comic Sans MS"/>
              </a:rPr>
              <a:t>Right There”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Hand/Lit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143000" y="4214880"/>
            <a:ext cx="7202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You can point to the answ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 “</a:t>
            </a: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right there” in the tex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AutoShape 5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3286080" y="2286000"/>
            <a:ext cx="2286000" cy="1596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928800" y="4357800"/>
            <a:ext cx="7286400" cy="128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Right There”</a:t>
            </a:r>
            <a:br>
              <a:rPr sz="6000"/>
            </a:b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Hand/Liter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99680" y="1980720"/>
            <a:ext cx="8358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Comic Sans MS"/>
              </a:rPr>
              <a:t>Mary had a little lam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Comic Sans MS"/>
              </a:rPr>
              <a:t>It’s fleece was white as s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873000" y="3733920"/>
            <a:ext cx="7198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kind of animal did Mar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v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7000920" y="1357200"/>
            <a:ext cx="1947960" cy="15908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horz"/>
    <p:sndAc>
      <p:stSnd>
        <p:snd r:embed="rId3" name="APPLAUSE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3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8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3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900"/>
                            </p:stCondLst>
                            <p:childTnLst>
                              <p:par>
                                <p:cTn id="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300"/>
                            </p:stCondLst>
                            <p:childTnLst>
                              <p:par>
                                <p:cTn id="8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50104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“</a:t>
            </a:r>
            <a:r>
              <a:rPr b="1" i="1" lang="en-US" sz="3600" spc="-1" strike="noStrike">
                <a:solidFill>
                  <a:srgbClr val="663300"/>
                </a:solidFill>
                <a:latin typeface="Comic Sans MS"/>
              </a:rPr>
              <a:t>Think and Search”</a:t>
            </a:r>
            <a:br>
              <a:rPr sz="3600"/>
            </a:br>
            <a:r>
              <a:rPr b="1" i="1" lang="en-US" sz="3600" spc="-1" strike="noStrike">
                <a:solidFill>
                  <a:srgbClr val="663300"/>
                </a:solidFill>
                <a:latin typeface="Comic Sans MS"/>
              </a:rPr>
              <a:t>Hand &amp; Head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Literal re-organisation/Infer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42600" y="3857760"/>
            <a:ext cx="7358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 need to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earch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ext for information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nd Thin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bout what you k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3071880" y="2357280"/>
            <a:ext cx="2714400" cy="135756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3" name="DRUMROLL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75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1428840" y="4714920"/>
            <a:ext cx="6286320" cy="1071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500040"/>
            <a:ext cx="88581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33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666633"/>
                </a:solidFill>
                <a:latin typeface="Comic Sans MS"/>
              </a:rPr>
              <a:t>Think and Search”</a:t>
            </a:r>
            <a:br>
              <a:rPr sz="4800"/>
            </a:br>
            <a:r>
              <a:rPr b="1" i="1" lang="en-US" sz="4400" spc="-1" strike="noStrike">
                <a:solidFill>
                  <a:srgbClr val="663300"/>
                </a:solidFill>
                <a:latin typeface="Comic Sans MS"/>
              </a:rPr>
              <a:t> Hand &amp; Head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400"/>
            </a:b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Literal/Infer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00080" y="2285640"/>
            <a:ext cx="73915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Jack and Jill went up the hill to fetch a pail of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Comic Sans MS"/>
              </a:rPr>
              <a:t>Jack be nimble, Jack be quick, Jack jump over the candlesti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85840" y="426708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are the two Jack’s simila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are they differe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476280" y="2057400"/>
            <a:ext cx="27792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8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AutoShape 9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3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200"/>
                            </p:stCondLst>
                            <p:childTnLst>
                              <p:par>
                                <p:cTn id="1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3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400"/>
                            </p:stCondLst>
                            <p:childTnLst>
                              <p:par>
                                <p:cTn id="1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900"/>
                            </p:stCondLst>
                            <p:childTnLst>
                              <p:par>
                                <p:cTn id="1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6:28:03Z</dcterms:created>
  <dc:creator>Mary Ruebusch</dc:creator>
  <dc:description/>
  <dc:language>en-US</dc:language>
  <cp:lastModifiedBy>olyons</cp:lastModifiedBy>
  <dcterms:modified xsi:type="dcterms:W3CDTF">2010-07-29T01:36:15Z</dcterms:modified>
  <cp:revision>38</cp:revision>
  <dc:subject/>
  <dc:title>Strategies for Questions</dc:title>
</cp:coreProperties>
</file>